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7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25.jpeg" ContentType="image/jpeg"/>
  <Override PartName="/ppt/media/image67.png" ContentType="image/png"/>
  <Override PartName="/ppt/media/image30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65.png" ContentType="image/png"/>
  <Override PartName="/ppt/media/image6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60.png" ContentType="image/png"/>
  <Override PartName="/ppt/media/image6.jpeg" ContentType="image/jpeg"/>
  <Override PartName="/ppt/media/image18.png" ContentType="image/png"/>
  <Override PartName="/ppt/media/image49.png" ContentType="image/png"/>
  <Override PartName="/ppt/media/image23.jpeg" ContentType="image/jpeg"/>
  <Override PartName="/ppt/media/image24.png" ContentType="image/png"/>
  <Override PartName="/ppt/media/image28.jpeg" ContentType="image/jpeg"/>
  <Override PartName="/ppt/media/image11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3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6.png" ContentType="image/png"/>
  <Override PartName="/ppt/media/image8.jpeg" ContentType="image/jpeg"/>
  <Override PartName="/ppt/media/image31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9D9-2C76-4359-9FC2-4DDFC3560DF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0CA9-148F-4D9E-BBDC-970EE02CC6A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25EF-FEC8-43B1-B0DE-67C080BAD6B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 Antriebe haben die gleiche Lei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er mit Hochleistungsflachriemen kann man höhere Umfangsgeschwindigkeiten err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B35-1585-4C6A-A11F-398B37BF610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ibungserhöh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terialwah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rspann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chlingungswinkel 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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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1518-0380-4925-830C-039ECF4828A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ehnspan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länge kleiner als Wellenabstand, beim Auflegen muss Riemen gedehnt we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Wellenabstand &lt; 5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ro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nnrolle drückt nähe der kleinsten Scheibe von außen auf den Leertrum, dadurch vergrößert sich Umschlingungswinkel b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großen Trieben mit festen Wellenab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rehrichtungswechsel ausgeschl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i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urch verstellen des Antriebsmotors wird Riemen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li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lbsttätiges Spannen durch Gewichtsstücke od. Fed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otor sitzt auf 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das Rückdrehmoment des Motors wird Riemen selbsttätig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durch passen sich schwankende Drehmomente an und ein rutschfreies Arbeiten ist gewährleist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igt zu Schwingungen, bei Neukonstruktion vermei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chwenksche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ststehender Antriebsmotor (M) mit Schwenkriemenscheibe 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S ist ein Zahnradpaar eingebaut, sodass große Übersetzungen ins Langsame erzielen l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0203-18DA-4D45-B756-3F636BFC028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ufen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Änderung der Übersetzung i durch umlegen des Riemens auf andere Scheibenp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 Wellenabstand unverändert bleibt, muss Scheiben Ø so gewählt sein, das sich immer die gleiche Riemenlänge ergi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altvorgang im Still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gel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Änderung der Übersetz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schieben des Riemens während Betrieb mit Gab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gleiches Kegelverhältnis, wegen festen Wellenabstand und Riemenlä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scheibenverstell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Veränderung der Übersetzung, durch Veränderung der RichtØ beider 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Ausrück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legen während des Betriebes Kraftfluss wird kurzzeitig unterbro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654-37CA-4515-93DB-E4A5053E9E4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Beanspruchung Scheibe aus Leichtmetallen, Holz oder Kunstst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Kostengründen werden Scheiben aus dem Vollen gedreht oder geg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scheiben sind nach DIN 111 genormt, siehe RM TB S. 171 Tabelle 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305-F144-4BC7-9629-E590B60A2C3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bei Scheiben mit Ø größer 355mm angewan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mit Armen verse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zahl der Arme kann man berechnen (z≈0,15∙√d(mm)≥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uffläche möglichst geschliffen, um Laufzeit des Riemens zu erhö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gibt geteilte Scheiben, lassen sich nachträglich zwischen Lagerstellen setzen und einfache Mon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ölbung das selbe wie bei Boden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A36C-7D11-499D-8AEE-D424CF844F4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f497d"/>
                </a:solidFill>
                <a:latin typeface="Calibri"/>
              </a:rPr>
              <a:t>Riementriebe sind Zugmittelgetriebe, bei denen das biegeweiche elastische Zugmittel „Riemen“ rein reibschlüssig (kraftschlüssig) oder mit zusätzlichen Formschluß die Umfangskraft als Zugkraft von der Antriebs- zur Abtriebswelle  überträgt. Außer zur Leistungsübertragung werden die Flachriemen auch als Transportgurte zum Weiterleiten von Schütt- &amp; Stückgütern eingesetz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357-B21D-4C42-ADED-FED398FBF95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rmalkeil- &amp; Schmalkeilriemenscheiben sind nach DIN 2217 genormt. RM TB S. 174 Tabelle 16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ilrippenriemenscheiben sind nach DIN 7867 genormt, RM TB S. 175 Tabelle 16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geringeren Stückzahlen oder Einzelfertigungen werden die Schweißkonstruktionen bevorzu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4B6E-81B4-4F4B-949C-FC0DEBCAFF0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Leder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reinem Leder dadurch höhere Reibungswe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der Antriebstechnik von Mehrschicht &amp; Verbundriemen verdrän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Text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 aus organischen Stoffen (Baumwolle, Tierhaare, Naturseide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zw. synthetischen Stoffen (Kunstseide, Ny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öhere Kantenempfindlichkeit (Rissgefah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Antriebstechnik ohne Bedeu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unststoff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(Nylon, Per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Festigkeit bei konst. Temp. fast dehnungs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lechtes Reibungsverhalten, in der Antriebstechnik nur selten verwend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hrschicht- od. Verbund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 abgelö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lyamid-Zugelement kombiniert mit adhäsiven Laufflä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sitzen hohe Zugfestigkeitswerte (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450…600N/mm</a:t>
            </a:r>
            <a:r>
              <a:rPr b="0" lang="de-DE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), geringe De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Längsrichtung sehr flexibel &amp; unempfindlich gegen Schmiermittel sowie atmosphärischen Einflü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einer Schlupf, gute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98%, lange Lebensda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m Wellenabstand (1: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önnen auch bei hohen Geschwindigkeiten eingesetzt werden, verdrängen in manchen Fällen auch die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0A80-B0F5-4029-80D2-7A5EB33F1BC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rapezförmige Querschnitts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e Zugschicht (endlosgewickelte Kordfäden aus Polyesterfaser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n (hochwertige Kautschukmisch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hüllung aus gummierten Baumwollgewebe od. Synthetikgew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technischen Fortschritt mehrere Bauformen s. B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 größere Flexibilität zu erreichen sind Keilriemen gezahnt, dadurch kleinere Scheiben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Belastung wird Keilriemen in trapezförmige Rille der Scheibe gezogen, erzeugt an den beiden Flanken des Riemens den erforderlichen Reibschl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9C8B-8F9F-4DA9-B42E-5B26430FE50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einte Vorteile des Flachriemens mit Keilriem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hr bieg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Geschwindigkei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eise &amp; vibrationsfr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in ganzer breite gleichmäßig beanspr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llen verhindern verdrehen, dadurch abspringen verhind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Übersetz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s zu 80°bestä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lektr. Leitfähig, bedingt ölresis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392-0D77-4295-AA12-E9CB0A30E33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räfteverteilung am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ilwinkel α ist genormt und liegt bei 32°-40° für Normal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39E-0F63-49EA-BDFC-C23155BDA38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92B-499F-4C6A-BF9A-229F9959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BA5-42F0-4EEE-8FF3-F7078E40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E319F-786A-4F4F-B56E-DB09D89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6320E-8266-46C6-9B20-7F1C07EB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61F8A-85F8-428A-80EA-F751C062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02F7E-92C5-4CD5-831F-9A64FE4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C16FE-2775-4D73-854E-E33A883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A7FBB-5955-44CC-AAC7-86001F9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5D2FD-99CD-45E3-9EBF-2B58D890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67F44-A86A-498D-9493-9DF93C27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07D15-7430-486E-9EE3-0382DDFE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0BA-A2AA-4573-8F46-ADD4328C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DA2-17F2-4AAE-8836-D261CC22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7059-E7D3-4742-BA9B-EC335DC2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366-6D11-42C6-BF42-5DF446C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46B-5AFE-46BC-9ECC-78C433B9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B2A7-7143-4022-964E-59A14591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42EF-1CBC-487F-8265-93179157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1F8D-B351-4BCA-9B8E-FC8D9A01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D1A-5FE2-4EDD-83E8-14956E1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5B0-A795-47B3-9668-113AB892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E7C-3706-412E-80E7-D07A4DDE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FE62-2613-4764-993C-03D4D47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3E4B-7120-42A2-8C21-CBB703E5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BDED-8ABD-4177-801D-126E3C29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86F-E0AC-4EF4-8209-FC26E240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1CE6-D44B-4B11-9FE9-5B4E97AC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A7E8-6764-46EB-B53F-57DAA022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9519-4436-482B-83AA-36274991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D72A-FD1D-406C-92B2-375A4CEC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EDC7-BCC9-4052-940B-FF4E20E0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911-1E0A-4250-A0B3-9AB49D0F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78CD-6D72-4D91-9C0D-CECAD0EA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92DD-1FAC-414B-9E2A-647F4E42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C7D5-6EBE-495E-B0A5-9AD1F91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E477-C4DF-4811-9E5D-9D2BA3E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2308-97A3-4ADE-9110-C761BA3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F9A6-CA03-4F8D-874F-B19198AD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8ABE-95DD-43ED-B863-38C545A9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E436-A3BA-409A-87F4-1B2EDC94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A0A6-837B-47F8-8F2C-B04CBD3A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3053-EC11-4CE5-BCB7-B5C903B1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3D4-1488-465D-B178-859523B0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3CBC-D0B3-4407-9F6E-DEF09B86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E6F9-12E9-4972-83FC-E1F7A7B5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121B-F005-4886-B94D-FC376F9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2D23A-8C17-46ED-8F58-23FB3311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DD85-4AD1-4F56-8155-838F1BD3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FD02-255C-475E-A7E1-5A87972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179B-2CBC-4DAF-B40C-F4CE2FB1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A6657-EB46-4114-99AF-491B4E91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25CF-4AC6-4B12-A04E-3898BB62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06B9C-6743-42AC-8AF8-05546FF8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F84-B82A-4A03-BC84-E3069913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41AD-6761-4388-A965-E9929B3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08C15-88A6-4ABD-99CE-9204C9AD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865D-C20D-4033-A30E-B3124B9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C5C5-136C-4FAF-BA66-B4C4ED62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3F4C-ABC2-4D43-9929-9D1ACC7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87BF-1C52-499C-8614-613E868A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0A4B4-15F2-4B5F-9154-3E9FCAC7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7913-1677-454A-B557-9DB7407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29EB6-7509-4F4A-83AD-9ABD153E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D92D-9C2D-48DD-8F91-F2CB8C4C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06B-CCCD-4295-B128-F1C5B8E0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FAD16-4506-4864-9B96-6E215DC6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141A5-2CA4-4E67-BE26-9346C543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081C6-7957-4D8B-8649-E19D628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4E59E-9A65-4D80-9BE2-C87FBAA3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88C5-1F7C-4A13-8B38-3CEA0774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0860C-1DDF-48BF-92E8-FBC6897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3AFDD-86B3-4D71-BD99-211EDE28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57BBF-8B5E-4C34-8E51-1791D63F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B653-30DB-49E7-AD6E-A4B958E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713C1-94EF-4477-8EDE-4A241C5E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054-9DCC-4D9A-A283-B95B5AD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E81F1-B1F9-4451-978C-2AFE7E65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97FC9-4041-4BD8-A2B8-434582AA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8E0F-9794-4821-A5AE-549C0417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113F1-E792-476D-BA8A-AF2EE15A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E78ED-BB8E-4BA4-8FD6-B9C3BB59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06CB2-8FA0-4E47-B888-6665B7F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F2AE-8BF9-41DC-B043-41E2687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C27A8-1089-4077-89E5-F3DA840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ED195-E085-4D5A-97F7-845080E4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0FFB-0DC3-42AA-98C0-22542AD3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609-A8CA-4235-B856-CD290F5F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5D49-14AA-40FD-9A8E-570E3A6B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769BC-C7F3-4C3D-9EAE-B213B98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9A5F-5B63-492B-988C-7F5D2510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91A64-6E63-48CC-B92B-4D2A416D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C6CF-46B1-4F8B-9490-4F470AAE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0DF9-E450-4753-BFF1-03811EDE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876D5-A0BF-438D-B8B1-968D9025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95F69-F0B9-46B7-8EE8-BD2E6C1B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36FDE-D7B3-4553-9891-4B2781C1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0BF3C-2E41-4641-89E3-30D3110C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E34-9A9C-43AA-8FCE-8473675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6678A-26B1-4C78-8C14-A5A90194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DF61C-8BBD-4ABA-862F-364D0CC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3BF0A-38B3-4921-8FA6-C2C1132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4F3EB-BA53-4505-A256-8A375DA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41DC9-A42D-471A-B213-7D8F002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162B1-07C0-40A8-84F8-A1C4E6ED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25FFB-BE3F-4523-A8ED-5DE301FF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C332C-AD02-41B2-9A71-28A98CE3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7A8F-A864-4AFA-BB92-0D55F6E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1B08-F716-4084-829C-CFDD7B38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616D-0791-433E-B04F-A93CBA9054A7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erade Verbindung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E67C-DCFA-49A3-BDAB-74D2D58F0032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4AB-DB69-46F8-A1E6-1FF12C0938BA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erade Verbindung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2517-3509-4E38-8CDB-79C278664E93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erade Verbindung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159-3868-4241-871F-1D3A75CF6F1B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3F7-D59C-493E-935E-E85C296B4648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erade Verbindung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2AA-B37A-4750-AB87-1F70D625517C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80CD-42DC-4C34-A0BB-672221E816DA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F61B-BA1A-4CC3-8AD3-999EC78B01CC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Grafik 11" descr="dampfmaschine_1924.jpg"/>
          <p:cNvPicPr/>
          <p:nvPr/>
        </p:nvPicPr>
        <p:blipFill>
          <a:blip r:embed="rId1"/>
          <a:stretch/>
        </p:blipFill>
        <p:spPr>
          <a:xfrm>
            <a:off x="1943280" y="1665360"/>
            <a:ext cx="4917960" cy="3638520"/>
          </a:xfrm>
          <a:prstGeom prst="rect">
            <a:avLst/>
          </a:prstGeom>
          <a:ln w="0">
            <a:noFill/>
          </a:ln>
        </p:spPr>
      </p:pic>
      <p:pic>
        <p:nvPicPr>
          <p:cNvPr id="407" name="Grafik 3" descr="Auto.jpg"/>
          <p:cNvPicPr/>
          <p:nvPr/>
        </p:nvPicPr>
        <p:blipFill>
          <a:blip r:embed="rId2"/>
          <a:stretch/>
        </p:blipFill>
        <p:spPr>
          <a:xfrm>
            <a:off x="0" y="260280"/>
            <a:ext cx="3336840" cy="2664000"/>
          </a:xfrm>
          <a:prstGeom prst="rect">
            <a:avLst/>
          </a:prstGeom>
          <a:ln w="0">
            <a:noFill/>
          </a:ln>
        </p:spPr>
      </p:pic>
      <p:pic>
        <p:nvPicPr>
          <p:cNvPr id="408" name="Grafik 4" descr="bohrmaschine.jpg"/>
          <p:cNvPicPr/>
          <p:nvPr/>
        </p:nvPicPr>
        <p:blipFill>
          <a:blip r:embed="rId3"/>
          <a:stretch/>
        </p:blipFill>
        <p:spPr>
          <a:xfrm>
            <a:off x="395280" y="3357720"/>
            <a:ext cx="2303640" cy="306864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8" descr="motorrad.jpg"/>
          <p:cNvPicPr/>
          <p:nvPr/>
        </p:nvPicPr>
        <p:blipFill>
          <a:blip r:embed="rId4"/>
          <a:stretch/>
        </p:blipFill>
        <p:spPr>
          <a:xfrm>
            <a:off x="3132000" y="76500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410" name="Grafik 9" descr="riemen_in_muhle_3802.jpg"/>
          <p:cNvPicPr/>
          <p:nvPr/>
        </p:nvPicPr>
        <p:blipFill>
          <a:blip r:embed="rId5"/>
          <a:stretch/>
        </p:blipFill>
        <p:spPr>
          <a:xfrm>
            <a:off x="2771640" y="3429000"/>
            <a:ext cx="3337200" cy="2502000"/>
          </a:xfrm>
          <a:prstGeom prst="rect">
            <a:avLst/>
          </a:prstGeom>
          <a:ln w="0">
            <a:noFill/>
          </a:ln>
        </p:spPr>
      </p:pic>
      <p:pic>
        <p:nvPicPr>
          <p:cNvPr id="411" name="Grafik 6" descr="flughafen.jpg"/>
          <p:cNvPicPr/>
          <p:nvPr/>
        </p:nvPicPr>
        <p:blipFill>
          <a:blip r:embed="rId6"/>
          <a:stretch/>
        </p:blipFill>
        <p:spPr>
          <a:xfrm>
            <a:off x="6012000" y="0"/>
            <a:ext cx="2916000" cy="2916360"/>
          </a:xfrm>
          <a:prstGeom prst="rect">
            <a:avLst/>
          </a:prstGeom>
          <a:ln w="0">
            <a:noFill/>
          </a:ln>
        </p:spPr>
      </p:pic>
      <p:pic>
        <p:nvPicPr>
          <p:cNvPr id="412" name="Grafik 7" descr="foerderband1.jpg"/>
          <p:cNvPicPr/>
          <p:nvPr/>
        </p:nvPicPr>
        <p:blipFill>
          <a:blip r:embed="rId7"/>
          <a:stretch/>
        </p:blipFill>
        <p:spPr>
          <a:xfrm>
            <a:off x="6162840" y="2852640"/>
            <a:ext cx="2981160" cy="1944720"/>
          </a:xfrm>
          <a:prstGeom prst="rect">
            <a:avLst/>
          </a:prstGeom>
          <a:ln w="0">
            <a:noFill/>
          </a:ln>
        </p:spPr>
      </p:pic>
      <p:pic>
        <p:nvPicPr>
          <p:cNvPr id="413" name="Grafik 5" descr="crosstrainer.jpg"/>
          <p:cNvPicPr/>
          <p:nvPr/>
        </p:nvPicPr>
        <p:blipFill>
          <a:blip r:embed="rId8"/>
          <a:stretch/>
        </p:blipFill>
        <p:spPr>
          <a:xfrm>
            <a:off x="6084720" y="4470480"/>
            <a:ext cx="2240280" cy="23875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539640" y="4400640"/>
            <a:ext cx="3810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 Vorspannung(&lt;1.5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2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r 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Drehmomtentstöß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4788000" y="184464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4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751280" y="4329000"/>
            <a:ext cx="4191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inge Vorspannung (&lt;1.1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onstante Übersetzung (i&lt;1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inkelgenaue 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 Schlup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Überlastsicherh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76360" y="2421000"/>
            <a:ext cx="4213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Vorspannung (&lt;2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mittlere Übersetzung (i&lt;15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eringe Laufgeräus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Textfeld 12"/>
          <p:cNvSpPr/>
          <p:nvPr/>
        </p:nvSpPr>
        <p:spPr>
          <a:xfrm>
            <a:off x="2505960" y="112536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1. Wahl der Riemenar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65" name="Textfeld 5"/>
          <p:cNvSpPr/>
          <p:nvPr/>
        </p:nvSpPr>
        <p:spPr>
          <a:xfrm>
            <a:off x="2332440" y="1268280"/>
            <a:ext cx="42523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Wahl der Riemenar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6" name="Picture 2" descr="http://www.paul-herkt.de/graphics/produkte/riemen.gif"/>
          <p:cNvPicPr/>
          <p:nvPr/>
        </p:nvPicPr>
        <p:blipFill>
          <a:blip r:embed="rId2"/>
          <a:srcRect l="3779" t="9527" r="0" b="7876"/>
          <a:stretch/>
        </p:blipFill>
        <p:spPr>
          <a:xfrm>
            <a:off x="184320" y="1628640"/>
            <a:ext cx="2044440" cy="1044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http://www.wmv-dresden-download.de/verschiedenes/keilriemen.JPG"/>
          <p:cNvPicPr/>
          <p:nvPr/>
        </p:nvPicPr>
        <p:blipFill>
          <a:blip r:embed="rId3"/>
          <a:srcRect l="0" t="1811" r="35451" b="0"/>
          <a:stretch/>
        </p:blipFill>
        <p:spPr>
          <a:xfrm>
            <a:off x="6696000" y="1665360"/>
            <a:ext cx="1621080" cy="1173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http://www.sternzeit-107.de/gallery/Keilriemen/Keilrippenriemen.gif"/>
          <p:cNvPicPr/>
          <p:nvPr/>
        </p:nvPicPr>
        <p:blipFill>
          <a:blip r:embed="rId4"/>
          <a:stretch/>
        </p:blipFill>
        <p:spPr>
          <a:xfrm>
            <a:off x="216000" y="3321000"/>
            <a:ext cx="2003400" cy="1295280"/>
          </a:xfrm>
          <a:prstGeom prst="rect">
            <a:avLst/>
          </a:prstGeom>
          <a:ln w="0">
            <a:noFill/>
          </a:ln>
        </p:spPr>
      </p:pic>
      <p:pic>
        <p:nvPicPr>
          <p:cNvPr id="469" name="Gerade Verbindung mit Pfeil 9" descr=""/>
          <p:cNvPicPr/>
          <p:nvPr/>
        </p:nvPicPr>
        <p:blipFill>
          <a:blip r:embed="rId5"/>
          <a:stretch/>
        </p:blipFill>
        <p:spPr>
          <a:xfrm>
            <a:off x="1682640" y="2176560"/>
            <a:ext cx="1541520" cy="517320"/>
          </a:xfrm>
          <a:prstGeom prst="rect">
            <a:avLst/>
          </a:prstGeom>
          <a:ln w="0">
            <a:noFill/>
          </a:ln>
        </p:spPr>
      </p:pic>
      <p:pic>
        <p:nvPicPr>
          <p:cNvPr id="470" name="Gerade Verbindung mit Pfeil 10" descr=""/>
          <p:cNvPicPr/>
          <p:nvPr/>
        </p:nvPicPr>
        <p:blipFill>
          <a:blip r:embed="rId6"/>
          <a:stretch/>
        </p:blipFill>
        <p:spPr>
          <a:xfrm>
            <a:off x="1719360" y="3438360"/>
            <a:ext cx="1365120" cy="981360"/>
          </a:xfrm>
          <a:prstGeom prst="rect">
            <a:avLst/>
          </a:prstGeom>
          <a:ln w="0">
            <a:noFill/>
          </a:ln>
        </p:spPr>
      </p:pic>
      <p:pic>
        <p:nvPicPr>
          <p:cNvPr id="471" name="Gerade Verbindung mit Pfeil 11" descr=""/>
          <p:cNvPicPr/>
          <p:nvPr/>
        </p:nvPicPr>
        <p:blipFill>
          <a:blip r:embed="rId7"/>
          <a:stretch/>
        </p:blipFill>
        <p:spPr>
          <a:xfrm>
            <a:off x="5114880" y="2036880"/>
            <a:ext cx="1835280" cy="895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http://www.lenze.de/lenze.de_de_active/200_Partner_Products/210_AT_Partner_Products/at_images/0110_Verbindungstechnik/0170_Zahnriemen/LEA33_Poly_Chain_GT_1307_w.jpg"/>
          <p:cNvPicPr/>
          <p:nvPr/>
        </p:nvPicPr>
        <p:blipFill>
          <a:blip r:embed="rId8"/>
          <a:stretch/>
        </p:blipFill>
        <p:spPr>
          <a:xfrm>
            <a:off x="5977080" y="3249720"/>
            <a:ext cx="2095200" cy="1438200"/>
          </a:xfrm>
          <a:prstGeom prst="rect">
            <a:avLst/>
          </a:prstGeom>
          <a:ln w="0">
            <a:noFill/>
          </a:ln>
        </p:spPr>
      </p:pic>
      <p:pic>
        <p:nvPicPr>
          <p:cNvPr id="473" name="Gerade Verbindung mit Pfeil 23" descr=""/>
          <p:cNvPicPr/>
          <p:nvPr/>
        </p:nvPicPr>
        <p:blipFill>
          <a:blip r:embed="rId9"/>
          <a:stretch/>
        </p:blipFill>
        <p:spPr>
          <a:xfrm>
            <a:off x="5121360" y="3608280"/>
            <a:ext cx="1218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35" descr=""/>
          <p:cNvPicPr/>
          <p:nvPr/>
        </p:nvPicPr>
        <p:blipFill>
          <a:blip r:embed="rId2"/>
          <a:stretch/>
        </p:blipFill>
        <p:spPr>
          <a:xfrm>
            <a:off x="2158920" y="1233360"/>
            <a:ext cx="5029200" cy="4751640"/>
          </a:xfrm>
          <a:prstGeom prst="rect">
            <a:avLst/>
          </a:prstGeom>
          <a:ln w="0">
            <a:noFill/>
          </a:ln>
        </p:spPr>
      </p:pic>
      <p:sp>
        <p:nvSpPr>
          <p:cNvPr id="477" name="Textfeld 6"/>
          <p:cNvSpPr/>
          <p:nvPr/>
        </p:nvSpPr>
        <p:spPr>
          <a:xfrm>
            <a:off x="4284360" y="59850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e3b30"/>
                </a:solidFill>
                <a:latin typeface="Franklin Gothic Book"/>
              </a:rPr>
              <a:t>RM S. 58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9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80" name="Textfeld 5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1835280" y="2168640"/>
            <a:ext cx="5167080" cy="289080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7"/>
          <p:cNvSpPr/>
          <p:nvPr/>
        </p:nvSpPr>
        <p:spPr>
          <a:xfrm>
            <a:off x="1869120" y="5373720"/>
            <a:ext cx="598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ste Bauform ohne Spannvorrichtung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leiche Drehbewegung der Riemenscheib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aagerechter, schräger und senkrechter Anordn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2940120" y="166536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offene Riemenge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1116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Book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4876920" y="1308240"/>
            <a:ext cx="4038480" cy="1695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876920" y="3193920"/>
            <a:ext cx="3933720" cy="1378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3996000" cy="10159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4572000" y="1752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4572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4724280" y="5024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5759280" y="2673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kreuz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300720" y="418464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gekreuzt (geschränkt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7343640" y="5516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keltrieb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Textfeld 14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Textfeld 16"/>
          <p:cNvSpPr/>
          <p:nvPr/>
        </p:nvSpPr>
        <p:spPr>
          <a:xfrm>
            <a:off x="739080" y="1808280"/>
            <a:ext cx="41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b) 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eiben drehen entgegengeset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rührung des Riemens vermeid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ur für Flachriemen geeigne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Textfeld 17"/>
          <p:cNvSpPr/>
          <p:nvPr/>
        </p:nvSpPr>
        <p:spPr>
          <a:xfrm>
            <a:off x="863280" y="335772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c) halb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gekreuzte Well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Textfeld 18"/>
          <p:cNvSpPr/>
          <p:nvPr/>
        </p:nvSpPr>
        <p:spPr>
          <a:xfrm>
            <a:off x="811800" y="4797360"/>
            <a:ext cx="36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d) Winkel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ellenachsen mit Schnittpunk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lenkrolle notwend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02" name="Textfeld 7"/>
          <p:cNvSpPr/>
          <p:nvPr/>
        </p:nvSpPr>
        <p:spPr>
          <a:xfrm>
            <a:off x="2935440" y="116064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3" name="Picture 14" descr=""/>
          <p:cNvPicPr/>
          <p:nvPr/>
        </p:nvPicPr>
        <p:blipFill>
          <a:blip r:embed="rId2"/>
          <a:stretch/>
        </p:blipFill>
        <p:spPr>
          <a:xfrm>
            <a:off x="5111640" y="1628640"/>
            <a:ext cx="3505320" cy="2252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" descr=""/>
          <p:cNvPicPr/>
          <p:nvPr/>
        </p:nvPicPr>
        <p:blipFill>
          <a:blip r:embed="rId3"/>
          <a:stretch/>
        </p:blipFill>
        <p:spPr>
          <a:xfrm>
            <a:off x="5148360" y="396864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4572000" y="1916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4608360" y="414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28600" y="1905120"/>
            <a:ext cx="3962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443329"/>
                </a:solidFill>
                <a:uFillTx/>
                <a:latin typeface="Franklin Gothic Book"/>
              </a:rPr>
              <a:t>e) &amp; f) Mehrfachantrieb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istungsverteil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in Antrieb, mehrere Ab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Ober- und Unterseite des Riemens als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aufflä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Mehrfachbie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ahnriemen für winkelgetreue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setz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10" name="Textfeld 7"/>
          <p:cNvSpPr/>
          <p:nvPr/>
        </p:nvSpPr>
        <p:spPr>
          <a:xfrm>
            <a:off x="2676600" y="116064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3. Vorspannmöglichkeit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1" name="Picture 24" descr=""/>
          <p:cNvPicPr/>
          <p:nvPr/>
        </p:nvPicPr>
        <p:blipFill>
          <a:blip r:embed="rId2"/>
          <a:stretch/>
        </p:blipFill>
        <p:spPr>
          <a:xfrm>
            <a:off x="6407280" y="4197240"/>
            <a:ext cx="2438280" cy="1959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"/>
          <p:cNvPicPr/>
          <p:nvPr/>
        </p:nvPicPr>
        <p:blipFill>
          <a:blip r:embed="rId3"/>
          <a:stretch/>
        </p:blipFill>
        <p:spPr>
          <a:xfrm>
            <a:off x="539640" y="2313000"/>
            <a:ext cx="2514600" cy="1633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1" descr=""/>
          <p:cNvPicPr/>
          <p:nvPr/>
        </p:nvPicPr>
        <p:blipFill>
          <a:blip r:embed="rId4"/>
          <a:stretch/>
        </p:blipFill>
        <p:spPr>
          <a:xfrm>
            <a:off x="3587760" y="426564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0" descr=""/>
          <p:cNvPicPr/>
          <p:nvPr/>
        </p:nvPicPr>
        <p:blipFill>
          <a:blip r:embed="rId5"/>
          <a:stretch/>
        </p:blipFill>
        <p:spPr>
          <a:xfrm>
            <a:off x="311040" y="4802040"/>
            <a:ext cx="3148200" cy="127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"/>
          <p:cNvPicPr/>
          <p:nvPr/>
        </p:nvPicPr>
        <p:blipFill>
          <a:blip r:embed="rId6"/>
          <a:stretch/>
        </p:blipFill>
        <p:spPr>
          <a:xfrm>
            <a:off x="6330960" y="2162160"/>
            <a:ext cx="2209680" cy="1708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6" descr=""/>
          <p:cNvPicPr/>
          <p:nvPr/>
        </p:nvPicPr>
        <p:blipFill>
          <a:blip r:embed="rId7"/>
          <a:stretch/>
        </p:blipFill>
        <p:spPr>
          <a:xfrm>
            <a:off x="3587760" y="1855800"/>
            <a:ext cx="2286000" cy="20271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3600360" y="195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6300720" y="220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24000" y="4797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826920" y="386064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hnspannu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684360" y="609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litt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4032360" y="612936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wipp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468360" y="234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3959280" y="38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rol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6629400" y="3821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ien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743280" y="4400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6372360" y="42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Text Box 26"/>
          <p:cNvSpPr/>
          <p:nvPr/>
        </p:nvSpPr>
        <p:spPr>
          <a:xfrm>
            <a:off x="6551640" y="61657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Schwenk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0" name="Picture 26" descr=""/>
          <p:cNvPicPr/>
          <p:nvPr/>
        </p:nvPicPr>
        <p:blipFill>
          <a:blip r:embed="rId1"/>
          <a:stretch/>
        </p:blipFill>
        <p:spPr>
          <a:xfrm>
            <a:off x="6535800" y="1752480"/>
            <a:ext cx="2414520" cy="3729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2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1695600" cy="3429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4"/>
          <p:cNvSpPr/>
          <p:nvPr/>
        </p:nvSpPr>
        <p:spPr>
          <a:xfrm>
            <a:off x="304920" y="57913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ufen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3623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ge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858000" y="5791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ückgetrie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5" name="Picture 23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1703160" cy="2986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4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427120" cy="31147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5"/>
          <p:cNvSpPr/>
          <p:nvPr/>
        </p:nvSpPr>
        <p:spPr>
          <a:xfrm>
            <a:off x="44197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Kei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8" name="Titel 1" descr=""/>
          <p:cNvPicPr/>
          <p:nvPr/>
        </p:nvPicPr>
        <p:blipFill>
          <a:blip r:embed="rId5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39" name="Textfeld 15"/>
          <p:cNvSpPr/>
          <p:nvPr/>
        </p:nvSpPr>
        <p:spPr>
          <a:xfrm>
            <a:off x="2305800" y="116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Verstell- bzw. Schaltgetrie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42" name="Textfeld 7"/>
          <p:cNvSpPr/>
          <p:nvPr/>
        </p:nvSpPr>
        <p:spPr>
          <a:xfrm>
            <a:off x="289332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2"/>
          <a:stretch/>
        </p:blipFill>
        <p:spPr>
          <a:xfrm>
            <a:off x="6408720" y="3824280"/>
            <a:ext cx="1889280" cy="2505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3"/>
          <a:stretch/>
        </p:blipFill>
        <p:spPr>
          <a:xfrm>
            <a:off x="900000" y="3392640"/>
            <a:ext cx="4929480" cy="312408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3" descr=""/>
          <p:cNvPicPr/>
          <p:nvPr/>
        </p:nvPicPr>
        <p:blipFill>
          <a:blip r:embed="rId4"/>
          <a:stretch/>
        </p:blipFill>
        <p:spPr>
          <a:xfrm>
            <a:off x="139680" y="1474920"/>
            <a:ext cx="6364440" cy="7556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-252360" y="1413000"/>
            <a:ext cx="72374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Werkstoff: Gusseisen, Stahlguss oder Stah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Durchmesser: d &lt; 355 m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Lauffläche geschliff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gewölbte Lauffläche sollen Riemen zentrieren und ablaufen verhinder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7" name="Picture 8" descr=""/>
          <p:cNvPicPr/>
          <p:nvPr/>
        </p:nvPicPr>
        <p:blipFill>
          <a:blip r:embed="rId5"/>
          <a:stretch/>
        </p:blipFill>
        <p:spPr>
          <a:xfrm>
            <a:off x="6551640" y="1219320"/>
            <a:ext cx="1601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50" name="Textfeld 8"/>
          <p:cNvSpPr/>
          <p:nvPr/>
        </p:nvSpPr>
        <p:spPr>
          <a:xfrm>
            <a:off x="2893320" y="112536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1" name="Picture 11" descr=""/>
          <p:cNvPicPr/>
          <p:nvPr/>
        </p:nvPicPr>
        <p:blipFill>
          <a:blip r:embed="rId2"/>
          <a:stretch/>
        </p:blipFill>
        <p:spPr>
          <a:xfrm>
            <a:off x="5616720" y="3645000"/>
            <a:ext cx="3047760" cy="2601720"/>
          </a:xfrm>
          <a:prstGeom prst="rect">
            <a:avLst/>
          </a:prstGeom>
          <a:ln w="0">
            <a:noFill/>
          </a:ln>
        </p:spPr>
      </p:pic>
      <p:pic>
        <p:nvPicPr>
          <p:cNvPr id="552" name="Rectangle 5" descr=""/>
          <p:cNvPicPr/>
          <p:nvPr/>
        </p:nvPicPr>
        <p:blipFill>
          <a:blip r:embed="rId3"/>
          <a:stretch/>
        </p:blipFill>
        <p:spPr>
          <a:xfrm>
            <a:off x="103320" y="1798560"/>
            <a:ext cx="5224320" cy="755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"/>
          <p:cNvPicPr/>
          <p:nvPr/>
        </p:nvPicPr>
        <p:blipFill>
          <a:blip r:embed="rId4"/>
          <a:stretch/>
        </p:blipFill>
        <p:spPr>
          <a:xfrm>
            <a:off x="216000" y="2924280"/>
            <a:ext cx="4795560" cy="3300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"/>
          <p:cNvPicPr/>
          <p:nvPr/>
        </p:nvPicPr>
        <p:blipFill>
          <a:blip r:embed="rId5"/>
          <a:stretch/>
        </p:blipFill>
        <p:spPr>
          <a:xfrm>
            <a:off x="6372360" y="1125360"/>
            <a:ext cx="2008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17" name="Textfeld 6"/>
          <p:cNvSpPr/>
          <p:nvPr/>
        </p:nvSpPr>
        <p:spPr>
          <a:xfrm>
            <a:off x="971640" y="2205000"/>
            <a:ext cx="72374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Reib- oder formschlüssige Momentenübertragung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über ein biegeweiches, elastisches Zugmittel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(Riemen), zwischen zwei oder mehreren Wel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neben Lastübertragung werden Flachriemen als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Transportgurt eingesetz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1"/>
          <a:stretch/>
        </p:blipFill>
        <p:spPr>
          <a:xfrm>
            <a:off x="861840" y="3224160"/>
            <a:ext cx="3200400" cy="220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76360" y="2205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geschweißte Flachriemenschei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8" name="Picture 10" descr=""/>
          <p:cNvPicPr/>
          <p:nvPr/>
        </p:nvPicPr>
        <p:blipFill>
          <a:blip r:embed="rId2"/>
          <a:stretch/>
        </p:blipFill>
        <p:spPr>
          <a:xfrm>
            <a:off x="4896000" y="238428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1"/>
          <p:cNvSpPr/>
          <p:nvPr/>
        </p:nvSpPr>
        <p:spPr>
          <a:xfrm>
            <a:off x="5219640" y="1736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Keil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4859280" y="37530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Voll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4684680" y="5827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gossene Boden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2" name="Text Box 14"/>
          <p:cNvSpPr/>
          <p:nvPr/>
        </p:nvSpPr>
        <p:spPr>
          <a:xfrm>
            <a:off x="6437160" y="5827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löte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7504200" y="5827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schweiß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4" name="Titel 1" descr=""/>
          <p:cNvPicPr/>
          <p:nvPr/>
        </p:nvPicPr>
        <p:blipFill>
          <a:blip r:embed="rId3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5" name="Textfeld 15"/>
          <p:cNvSpPr/>
          <p:nvPr/>
        </p:nvSpPr>
        <p:spPr>
          <a:xfrm>
            <a:off x="300096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el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130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feld 3"/>
          <p:cNvSpPr/>
          <p:nvPr/>
        </p:nvSpPr>
        <p:spPr>
          <a:xfrm>
            <a:off x="1258920" y="1916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kraftschlüssig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feld 4"/>
          <p:cNvSpPr/>
          <p:nvPr/>
        </p:nvSpPr>
        <p:spPr>
          <a:xfrm>
            <a:off x="5076720" y="1916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ormschlüss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Synchronriemen (Zahnriemen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Grafik 5" descr="Flachriemen.jpg"/>
          <p:cNvPicPr/>
          <p:nvPr/>
        </p:nvPicPr>
        <p:blipFill>
          <a:blip r:embed="rId2"/>
          <a:stretch/>
        </p:blipFill>
        <p:spPr>
          <a:xfrm>
            <a:off x="539640" y="342900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keilriemen.jpg"/>
          <p:cNvPicPr/>
          <p:nvPr/>
        </p:nvPicPr>
        <p:blipFill>
          <a:blip r:embed="rId3"/>
          <a:stretch/>
        </p:blipFill>
        <p:spPr>
          <a:xfrm>
            <a:off x="2340000" y="3429000"/>
            <a:ext cx="1584360" cy="158904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7" descr="zahriemen.jpg"/>
          <p:cNvPicPr/>
          <p:nvPr/>
        </p:nvPicPr>
        <p:blipFill>
          <a:blip r:embed="rId4"/>
          <a:stretch/>
        </p:blipFill>
        <p:spPr>
          <a:xfrm>
            <a:off x="5724360" y="3249720"/>
            <a:ext cx="1994040" cy="1906560"/>
          </a:xfrm>
          <a:prstGeom prst="rect">
            <a:avLst/>
          </a:prstGeom>
          <a:ln w="0">
            <a:noFill/>
          </a:ln>
        </p:spPr>
      </p:pic>
      <p:pic>
        <p:nvPicPr>
          <p:cNvPr id="425" name="Gerade Verbindung mit Pfeil 9" descr=""/>
          <p:cNvPicPr/>
          <p:nvPr/>
        </p:nvPicPr>
        <p:blipFill>
          <a:blip r:embed="rId5"/>
          <a:stretch/>
        </p:blipFill>
        <p:spPr>
          <a:xfrm>
            <a:off x="2548080" y="1133640"/>
            <a:ext cx="1908000" cy="981000"/>
          </a:xfrm>
          <a:prstGeom prst="rect">
            <a:avLst/>
          </a:prstGeom>
          <a:ln w="0">
            <a:noFill/>
          </a:ln>
        </p:spPr>
      </p:pic>
      <p:pic>
        <p:nvPicPr>
          <p:cNvPr id="426" name="Gerade Verbindung mit Pfeil 10" descr=""/>
          <p:cNvPicPr/>
          <p:nvPr/>
        </p:nvPicPr>
        <p:blipFill>
          <a:blip r:embed="rId6"/>
          <a:stretch/>
        </p:blipFill>
        <p:spPr>
          <a:xfrm>
            <a:off x="4286160" y="1133640"/>
            <a:ext cx="14083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6"/>
          <p:cNvSpPr/>
          <p:nvPr/>
        </p:nvSpPr>
        <p:spPr>
          <a:xfrm>
            <a:off x="1907640" y="1557360"/>
            <a:ext cx="625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lupf bei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konst. Übersetzung bei Keil- &amp; Keilrippen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ößere Wellenabstand &amp; Platzbedar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grenzter Temperaturberei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welteinflüsse haben Einfluss auf Reibungsverhalt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6" descr="Flachriemenaufbau.jpg"/>
          <p:cNvPicPr/>
          <p:nvPr/>
        </p:nvPicPr>
        <p:blipFill>
          <a:blip r:embed="rId2"/>
          <a:stretch/>
        </p:blipFill>
        <p:spPr>
          <a:xfrm>
            <a:off x="1295280" y="2852640"/>
            <a:ext cx="6732720" cy="3627360"/>
          </a:xfrm>
          <a:prstGeom prst="rect">
            <a:avLst/>
          </a:prstGeom>
          <a:ln w="0">
            <a:noFill/>
          </a:ln>
        </p:spPr>
      </p:pic>
      <p:sp>
        <p:nvSpPr>
          <p:cNvPr id="436" name="Textfeld 8"/>
          <p:cNvSpPr/>
          <p:nvPr/>
        </p:nvSpPr>
        <p:spPr>
          <a:xfrm>
            <a:off x="216000" y="1881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Textilriemen (nicht in der Antriebstechnik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Textfeld 9"/>
          <p:cNvSpPr/>
          <p:nvPr/>
        </p:nvSpPr>
        <p:spPr>
          <a:xfrm>
            <a:off x="5003640" y="1160640"/>
            <a:ext cx="259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unststoff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Textfeld 11"/>
          <p:cNvSpPr/>
          <p:nvPr/>
        </p:nvSpPr>
        <p:spPr>
          <a:xfrm>
            <a:off x="5040360" y="1808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Mehrschicht- oder Verbund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Textfeld 14"/>
          <p:cNvSpPr/>
          <p:nvPr/>
        </p:nvSpPr>
        <p:spPr>
          <a:xfrm>
            <a:off x="216000" y="1160640"/>
            <a:ext cx="23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der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2" name="Grafik 8" descr="Keilriemenarten.jpg"/>
          <p:cNvPicPr/>
          <p:nvPr/>
        </p:nvPicPr>
        <p:blipFill>
          <a:blip r:embed="rId2"/>
          <a:stretch/>
        </p:blipFill>
        <p:spPr>
          <a:xfrm>
            <a:off x="863640" y="1773360"/>
            <a:ext cx="7488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924360" cy="351648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7"/>
          <p:cNvSpPr/>
          <p:nvPr/>
        </p:nvSpPr>
        <p:spPr>
          <a:xfrm>
            <a:off x="1144800" y="501336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ebenaggregatean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7" name="Picture 4" descr="http://i.auto-bild.de/ir_img/58054550_9d3e4aa27a.jpg"/>
          <p:cNvPicPr/>
          <p:nvPr/>
        </p:nvPicPr>
        <p:blipFill>
          <a:blip r:embed="rId3"/>
          <a:stretch/>
        </p:blipFill>
        <p:spPr>
          <a:xfrm>
            <a:off x="4535640" y="1700280"/>
            <a:ext cx="4414680" cy="2941560"/>
          </a:xfrm>
          <a:prstGeom prst="rect">
            <a:avLst/>
          </a:prstGeom>
          <a:ln w="0">
            <a:noFill/>
          </a:ln>
        </p:spPr>
      </p:pic>
      <p:sp>
        <p:nvSpPr>
          <p:cNvPr id="448" name="Textfeld 8"/>
          <p:cNvSpPr/>
          <p:nvPr/>
        </p:nvSpPr>
        <p:spPr>
          <a:xfrm>
            <a:off x="5463720" y="479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lrippenantrieb im Au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tedata.com/uploads/pics/3k_10t_1_3_i04.gif"/>
          <p:cNvPicPr/>
          <p:nvPr/>
        </p:nvPicPr>
        <p:blipFill>
          <a:blip r:embed="rId2"/>
          <a:stretch/>
        </p:blipFill>
        <p:spPr>
          <a:xfrm>
            <a:off x="1655640" y="1233360"/>
            <a:ext cx="6220080" cy="3959280"/>
          </a:xfrm>
          <a:prstGeom prst="rect">
            <a:avLst/>
          </a:prstGeom>
          <a:ln w="0">
            <a:noFill/>
          </a:ln>
        </p:spPr>
      </p:pic>
      <p:sp>
        <p:nvSpPr>
          <p:cNvPr id="452" name="Textfeld 6"/>
          <p:cNvSpPr/>
          <p:nvPr/>
        </p:nvSpPr>
        <p:spPr>
          <a:xfrm>
            <a:off x="3959280" y="3789360"/>
            <a:ext cx="433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Franklin Gothic Book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Textfeld 7"/>
          <p:cNvSpPr/>
          <p:nvPr/>
        </p:nvSpPr>
        <p:spPr>
          <a:xfrm>
            <a:off x="6156360" y="2492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Textfeld 8"/>
          <p:cNvSpPr/>
          <p:nvPr/>
        </p:nvSpPr>
        <p:spPr>
          <a:xfrm>
            <a:off x="1979640" y="2600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Textfeld 9"/>
          <p:cNvSpPr/>
          <p:nvPr/>
        </p:nvSpPr>
        <p:spPr>
          <a:xfrm>
            <a:off x="3537720" y="5445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räfte am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3:57:17Z</dcterms:created>
  <dc:creator>Daniel</dc:creator>
  <dc:description/>
  <dc:language>en-US</dc:language>
  <cp:lastModifiedBy>Daniel</cp:lastModifiedBy>
  <dcterms:modified xsi:type="dcterms:W3CDTF">2010-11-11T16:59:38Z</dcterms:modified>
  <cp:revision>88</cp:revision>
  <dc:subject/>
  <dc:title>Folie 1</dc:title>
</cp:coreProperties>
</file>